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3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move the slide</a:t>
            </a:r>
            <a:endParaRPr b="0" lang="en-US" sz="4200" spc="-1" strike="noStrike">
              <a:solidFill>
                <a:srgbClr val="ff5c9c"/>
              </a:solidFill>
              <a:latin typeface="Century Gothic"/>
            </a:endParaRPr>
          </a:p>
        </p:txBody>
      </p:sp>
      <p:sp>
        <p:nvSpPr>
          <p:cNvPr id="3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717D4-734B-4DEF-9AEE-69C39837F81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295EF-7B07-4258-8692-00DCA1276FF7}"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91B9AF-FDE9-4601-8D7B-8EEB5517F9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35B3D-14E7-4DDB-9AE2-49DF9BE66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FFD4F0-446C-4990-A76B-F94067D476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1E91A3-28E3-4421-B079-95579DE009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E143C3-5ECE-40C8-BF4E-83CCDECFB3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00ACE9-4587-4C4C-952C-EE44D28A9A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F54D56-FD93-4FB8-B648-D115CE9D4A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E26887-BC9A-42CC-BC05-61C00DBA02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9E688E-9C3F-4E9E-BF53-071C266B5B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DA5058-E6D3-48F5-A166-C8723F2757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6E769-7754-44AB-89A5-A596F8775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18BCF-F4F2-4607-9296-D8BF95D15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F30FB-77AF-4A12-A3EE-78A2CD7A13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75479-8BC4-4B6D-AED1-9934F4615C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6F2546-75F5-4193-9BB7-177B9D6CAC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9A7393-2931-48E2-AC08-B870620985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B2EBF2-693D-4BB8-86AA-6286F0252A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7A5DA5-313C-4AE3-A7BD-6E579A9678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2D5F44-6241-465A-B941-3C4486E2FD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D3A1CB-1841-47F3-9F42-99F00A3BC5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28E643-A6FB-46CA-A67A-72E3E18D5A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E9E5E6-9AD6-46DC-9BA3-A3CB47733E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6E1C2-ADE3-4CE3-823D-33C52CBF9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8CB6F3-C11A-4410-9D4A-55420EF652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04B00F-9BC2-4108-8619-2C252E8909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CDA276-0C1F-4AC0-A52C-FD9CDA08D1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3CF294-D128-4B01-8A87-687BCEBF9B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DEFF35-CA44-4FCB-9C14-460154C37C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FA17D2-ED8C-4D27-8F6F-497E1C2619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553686-BD76-4C87-8227-B70684C5BE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EAF2D7-6252-4A15-A8E7-70CC77040B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384B6C-3C1D-46E0-ABBE-0E58F327CB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B66238-1B82-4A91-A0FB-DA542F91C1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15BE8-EABB-4FCA-922F-E7EDEA228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BF75C1-2B10-4F87-B80F-D306E76FEF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6B0AB2-07CB-4227-AA0C-E41104F036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510CAF-A420-4E45-A578-EBCA4150C1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76F96F-383E-4E0B-9E21-FD7A0C14D4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761D65-1537-4574-84B0-0D5E9B22B7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5879CB-09DD-4F91-B9AC-10C09EC5A2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A7E6DF-99AF-4BA8-80BE-52A517AE6A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E47CB2-A64A-4EE9-93FB-43C254F672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5681BB-F9FB-4F44-AC06-110CDCDB35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DACACFE-0434-42D8-A244-139B92578F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5D70C-517E-4E66-9A68-69BA34A76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DD5418-2801-4F94-9C74-71DBDF9C23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DD88EF-AEDE-4112-812B-3888ACD497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4E7A1B-53B8-4AAE-9C80-AFF99D5A84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BCC156-8430-438D-9096-8FF762E733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2E15AC-9181-4697-BF8D-2746CB28B1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8DB72E-2BCE-40B0-9E05-55382D55B4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FD785C-3433-4F12-B9A5-A887DF347D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575708-C2F7-4AB2-878E-195676E815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C61463-F086-4C29-81BB-913ACF5CC3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DD939B-95AC-4A1E-960C-6F33ED5FF9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54CE0-18D9-44FB-A5E1-223CD1CC1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3EB25A-5843-4B22-97CF-4F66DD40E6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E4C421-E6C9-407B-AD49-65F355E02F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5098CA-D84E-423A-A34C-64B67CA74B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ADC798-C17D-47E5-A975-25F1228D56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204643-B75E-4315-95C9-2E475668ED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990C01-A65B-4473-B9E4-37BB79D0B9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96D3F2-D78D-4134-93BA-358F749F1F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A0ABF8-A9B5-440B-BB2E-12719E6535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FA78B9-38D1-4844-AAAC-3BEBF12E80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32D253-A042-49BD-B73B-30E315F065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79224-C1B1-4D18-B83F-51B514011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4927FE-B5AD-47C6-8D46-DBBC5F1DA5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6D964E-5AC9-49AD-B340-32E66E8BDE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6A659D-6E68-47B9-B69D-677C311F78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BB780B-ED7A-4CF0-9E9C-F18141D194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C298DE-3087-4695-A498-ECFC365376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BF413A-FF0D-4678-A5A1-55BDFEF2BB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2AD2BD-628E-465C-B304-04035D821F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A4857A-66FA-4444-ABFC-08797DFC26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483BE5-E4B1-4E0E-912F-F4FF175D6E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7E5090-6E61-483A-8FE3-33CE42ADE7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03D1C-9FCC-43E5-B7DE-918710DF3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090D7E-0095-41F4-B69E-9086EBB920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082760-42AE-438C-A5DC-0B57568A53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8CA972-EDF2-49F6-BE8D-138CD024E5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008560-AB43-4BFF-8686-0FC12CD88E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F5D3D43-C941-4B56-B707-79B2F7B773A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884E8-B0E0-4C69-850B-5D601A48DC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3E66F-B562-4F48-A304-FC263880740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9 Triángulo isósceles"/>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18997-EDC4-4393-87DD-4723E98DD371}" type="slidenum">
              <a:rPr b="0" lang="es-ES" sz="1300" spc="-1" strike="noStrike">
                <a:solidFill>
                  <a:srgbClr val="ffffff"/>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6EC2A-8315-4482-8CE1-F86C2084FF5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9 Triángulo rectángulo"/>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11 Triángulo isósceles"/>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12 Conector recto"/>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14 Conector recto"/>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4A93E-0B1D-4D63-A89A-549D73BBA64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9F906-41DD-4440-9018-7967204A4EC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3506B-550D-4A68-BE5A-5DB8D133A493}" type="slidenum">
              <a:rPr b="0" lang="es-ES" sz="900" spc="-1" strike="noStrike">
                <a:solidFill>
                  <a:srgbClr val="000000"/>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8297D-1F74-4218-BA70-168A1D94E0C6}" type="slidenum">
              <a:rPr b="0" lang="es-ES" sz="900" spc="-1" strike="noStrike">
                <a:solidFill>
                  <a:srgbClr val="ffffff"/>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youtube.com/watch?v=zHDrLxd9tK0" TargetMode="External"/><Relationship Id="rId3" Type="http://schemas.openxmlformats.org/officeDocument/2006/relationships/hyperlink" Target="http://www.youtube.com/watch?v=sA4cQoz3hOs" TargetMode="External"/><Relationship Id="rId4" Type="http://schemas.openxmlformats.org/officeDocument/2006/relationships/slideLayout" Target="../slideLayouts/slideLayout37.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1 CuadroTexto"/>
          <p:cNvSpPr/>
          <p:nvPr/>
        </p:nvSpPr>
        <p:spPr>
          <a:xfrm>
            <a:off x="790560" y="404640"/>
            <a:ext cx="75614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600" spc="-1" strike="noStrike">
                <a:solidFill>
                  <a:srgbClr val="2c71ff"/>
                </a:solidFill>
                <a:latin typeface="Harlow Solid Italic"/>
              </a:rPr>
              <a:t>LA EUROPA FEUDAL</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5" descr="campesinos1"/>
          <p:cNvPicPr/>
          <p:nvPr/>
        </p:nvPicPr>
        <p:blipFill>
          <a:blip r:embed="rId1"/>
          <a:stretch/>
        </p:blipFill>
        <p:spPr>
          <a:xfrm>
            <a:off x="539640" y="907920"/>
            <a:ext cx="4469040" cy="2997360"/>
          </a:xfrm>
          <a:prstGeom prst="rect">
            <a:avLst/>
          </a:prstGeom>
          <a:ln w="0">
            <a:noFill/>
          </a:ln>
        </p:spPr>
      </p:pic>
      <p:pic>
        <p:nvPicPr>
          <p:cNvPr id="310" name="Picture 7" descr="ANd9GcTBCs0FbKmlDZD2SGq4ZmAQUXnadcj3AKydgp3JV7dm_72bV-ST"/>
          <p:cNvPicPr/>
          <p:nvPr/>
        </p:nvPicPr>
        <p:blipFill>
          <a:blip r:embed="rId2"/>
          <a:stretch/>
        </p:blipFill>
        <p:spPr>
          <a:xfrm>
            <a:off x="539640" y="4437000"/>
            <a:ext cx="4392720" cy="2149560"/>
          </a:xfrm>
          <a:prstGeom prst="rect">
            <a:avLst/>
          </a:prstGeom>
          <a:ln w="0">
            <a:noFill/>
          </a:ln>
        </p:spPr>
      </p:pic>
      <p:pic>
        <p:nvPicPr>
          <p:cNvPr id="311" name="Picture 9" descr="edad_media_campesino"/>
          <p:cNvPicPr/>
          <p:nvPr/>
        </p:nvPicPr>
        <p:blipFill>
          <a:blip r:embed="rId3"/>
          <a:stretch/>
        </p:blipFill>
        <p:spPr>
          <a:xfrm>
            <a:off x="5564160" y="1566720"/>
            <a:ext cx="3133800" cy="5021280"/>
          </a:xfrm>
          <a:prstGeom prst="rect">
            <a:avLst/>
          </a:prstGeom>
          <a:ln w="0">
            <a:noFill/>
          </a:ln>
        </p:spPr>
      </p:pic>
      <p:sp>
        <p:nvSpPr>
          <p:cNvPr id="312" name="1 CuadroTexto"/>
          <p:cNvSpPr/>
          <p:nvPr/>
        </p:nvSpPr>
        <p:spPr>
          <a:xfrm>
            <a:off x="684360" y="1197000"/>
            <a:ext cx="107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1</a:t>
            </a:r>
            <a:endParaRPr b="0" lang="en-US" sz="1800" spc="-1" strike="noStrike">
              <a:solidFill>
                <a:srgbClr val="ffffff"/>
              </a:solidFill>
              <a:latin typeface="Arial"/>
            </a:endParaRPr>
          </a:p>
        </p:txBody>
      </p:sp>
      <p:sp>
        <p:nvSpPr>
          <p:cNvPr id="313" name="2 CuadroTexto"/>
          <p:cNvSpPr/>
          <p:nvPr/>
        </p:nvSpPr>
        <p:spPr>
          <a:xfrm>
            <a:off x="5727600" y="177336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a:t>
            </a:r>
            <a:endParaRPr b="0" lang="en-US" sz="1800" spc="-1" strike="noStrike">
              <a:solidFill>
                <a:srgbClr val="ffffff"/>
              </a:solidFill>
              <a:latin typeface="Arial"/>
            </a:endParaRPr>
          </a:p>
        </p:txBody>
      </p:sp>
      <p:sp>
        <p:nvSpPr>
          <p:cNvPr id="314" name="6 CuadroTexto"/>
          <p:cNvSpPr/>
          <p:nvPr/>
        </p:nvSpPr>
        <p:spPr>
          <a:xfrm>
            <a:off x="1332000" y="46530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5" descr="Ordem+e+alegria+medieval%252C+Gloria+da+Idade+Media"/>
          <p:cNvPicPr/>
          <p:nvPr/>
        </p:nvPicPr>
        <p:blipFill>
          <a:blip r:embed="rId1"/>
          <a:stretch/>
        </p:blipFill>
        <p:spPr>
          <a:xfrm>
            <a:off x="341280" y="520560"/>
            <a:ext cx="8424720" cy="6337440"/>
          </a:xfrm>
          <a:prstGeom prst="rect">
            <a:avLst/>
          </a:prstGeom>
          <a:ln w="0">
            <a:noFill/>
          </a:ln>
        </p:spPr>
      </p:pic>
      <p:sp>
        <p:nvSpPr>
          <p:cNvPr id="316" name="2 CuadroTexto"/>
          <p:cNvSpPr/>
          <p:nvPr/>
        </p:nvSpPr>
        <p:spPr>
          <a:xfrm>
            <a:off x="684360" y="83664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3 Título" descr=""/>
          <p:cNvPicPr/>
          <p:nvPr/>
        </p:nvPicPr>
        <p:blipFill>
          <a:blip r:embed="rId1"/>
          <a:stretch/>
        </p:blipFill>
        <p:spPr>
          <a:xfrm>
            <a:off x="384120" y="274680"/>
            <a:ext cx="42840" cy="1066680"/>
          </a:xfrm>
          <a:prstGeom prst="rect">
            <a:avLst/>
          </a:prstGeom>
          <a:ln w="0">
            <a:noFill/>
          </a:ln>
        </p:spPr>
      </p:pic>
      <p:sp>
        <p:nvSpPr>
          <p:cNvPr id="318" name="PlaceHolder 1"/>
          <p:cNvSpPr>
            <a:spLocks noGrp="1"/>
          </p:cNvSpPr>
          <p:nvPr>
            <p:ph/>
          </p:nvPr>
        </p:nvSpPr>
        <p:spPr>
          <a:xfrm>
            <a:off x="179280" y="0"/>
            <a:ext cx="8640720" cy="6858000"/>
          </a:xfrm>
          <a:prstGeom prst="rect">
            <a:avLst/>
          </a:prstGeom>
          <a:noFill/>
          <a:ln w="0">
            <a:noFill/>
          </a:ln>
        </p:spPr>
        <p:txBody>
          <a:bodyPr anchor="t">
            <a:normAutofit/>
          </a:bodyPr>
          <a:p>
            <a:pPr marL="54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a:p>
            <a:pPr marL="54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1. Se puede apreciar una hoguera, con una familia rodeándola. También se ve al ganado. Creemos que es una cabaña, porque esta echa madera, también se ve que el techo esta echo de paja. Creemos que el ganado esta dentro de la casa porque calientan. Esta una familia entera seguramente porque en esa época no tenían mucho dinero.</a:t>
            </a:r>
            <a:endParaRPr b="0" lang="en-US" sz="2600" spc="-1" strike="noStrike">
              <a:solidFill>
                <a:srgbClr val="ffffff"/>
              </a:solidFill>
              <a:latin typeface="Century Gothic"/>
            </a:endParaRPr>
          </a:p>
          <a:p>
            <a:pPr marL="54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entury Gothic"/>
              </a:rPr>
              <a:t>2. Se puede apreciar en la segunda imagen que hay un arado muy primitivo, el arado es una forma de cultivar las semillas más fácilmente del arado tira dos caballos pero normalmente suele tirar un par de mulas</a:t>
            </a:r>
            <a:r>
              <a:rPr b="0" lang="es-ES" sz="2800" spc="-1" strike="noStrike">
                <a:solidFill>
                  <a:srgbClr val="ffffff"/>
                </a:solidFill>
                <a:latin typeface="Century Gothic"/>
              </a:rPr>
              <a:t>. </a:t>
            </a:r>
            <a:endParaRPr b="0" lang="en-US" sz="2800" spc="-1" strike="noStrike">
              <a:solidFill>
                <a:srgbClr val="ffffff"/>
              </a:solidFill>
              <a:latin typeface="Century Gothic"/>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1 Título" descr=""/>
          <p:cNvPicPr/>
          <p:nvPr/>
        </p:nvPicPr>
        <p:blipFill>
          <a:blip r:embed="rId1"/>
          <a:stretch/>
        </p:blipFill>
        <p:spPr>
          <a:xfrm>
            <a:off x="384120" y="274680"/>
            <a:ext cx="42840" cy="127080"/>
          </a:xfrm>
          <a:prstGeom prst="rect">
            <a:avLst/>
          </a:prstGeom>
          <a:ln w="0">
            <a:noFill/>
          </a:ln>
        </p:spPr>
      </p:pic>
      <p:sp>
        <p:nvSpPr>
          <p:cNvPr id="320" name="PlaceHolder 1"/>
          <p:cNvSpPr>
            <a:spLocks noGrp="1"/>
          </p:cNvSpPr>
          <p:nvPr>
            <p:ph/>
          </p:nvPr>
        </p:nvSpPr>
        <p:spPr>
          <a:xfrm>
            <a:off x="468000" y="189000"/>
            <a:ext cx="8064360" cy="5976720"/>
          </a:xfrm>
          <a:prstGeom prst="rect">
            <a:avLst/>
          </a:prstGeom>
          <a:noFill/>
          <a:ln w="0">
            <a:noFill/>
          </a:ln>
        </p:spPr>
        <p:txBody>
          <a:bodyPr anchor="t">
            <a:normAutofit fontScale="97000"/>
          </a:bodyPr>
          <a:p>
            <a:pPr marL="5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rPr>
              <a:t>3. En la imagen se puede apreciar un campesino de la baja edad media con una herramienta para el arado. Se ve que vive de forma pobre por sus ropas harapientas.</a:t>
            </a:r>
            <a:endParaRPr b="0" lang="en-US" sz="2800" spc="-1" strike="noStrike">
              <a:solidFill>
                <a:srgbClr val="ffffff"/>
              </a:solidFill>
              <a:latin typeface="Century Gothic"/>
            </a:endParaRPr>
          </a:p>
          <a:p>
            <a:pPr marL="5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rPr>
              <a:t>Puede ser de dos tipos de campesinos : Villanos (Campesinos libres que no tienen dueño y si tienen pocos derechos) y esclavos(No tienen derechos y tienen un dueño)</a:t>
            </a:r>
            <a:endParaRPr b="0" lang="en-US" sz="2800" spc="-1" strike="noStrike">
              <a:solidFill>
                <a:srgbClr val="ffffff"/>
              </a:solidFill>
              <a:latin typeface="Century Gothic"/>
            </a:endParaRPr>
          </a:p>
          <a:p>
            <a:pPr marL="5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rPr>
              <a:t>4.Están coronando al príncipe que será rey después de esta ceremonia. Le están coronando dos obispos. Era la baja edad media porque el rey era una figura importante y todo el pueblo estaba presente.</a:t>
            </a:r>
            <a:endParaRPr b="0" lang="en-US" sz="2800" spc="-1" strike="noStrike">
              <a:solidFill>
                <a:srgbClr val="ffffff"/>
              </a:solidFill>
              <a:latin typeface="Century Gothic"/>
            </a:endParaRPr>
          </a:p>
          <a:p>
            <a:pPr marL="5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1 Título" descr=""/>
          <p:cNvPicPr/>
          <p:nvPr/>
        </p:nvPicPr>
        <p:blipFill>
          <a:blip r:embed="rId1"/>
          <a:stretch/>
        </p:blipFill>
        <p:spPr>
          <a:xfrm>
            <a:off x="171360" y="274680"/>
            <a:ext cx="7448760" cy="1359000"/>
          </a:xfrm>
          <a:prstGeom prst="rect">
            <a:avLst/>
          </a:prstGeom>
          <a:ln w="0">
            <a:noFill/>
          </a:ln>
        </p:spPr>
      </p:pic>
      <p:sp>
        <p:nvSpPr>
          <p:cNvPr id="322" name="PlaceHolder 1"/>
          <p:cNvSpPr>
            <a:spLocks noGrp="1"/>
          </p:cNvSpPr>
          <p:nvPr>
            <p:ph/>
          </p:nvPr>
        </p:nvSpPr>
        <p:spPr>
          <a:xfrm>
            <a:off x="380520" y="1633680"/>
            <a:ext cx="8512200" cy="2286000"/>
          </a:xfrm>
          <a:prstGeom prst="rect">
            <a:avLst/>
          </a:prstGeom>
          <a:noFill/>
          <a:ln w="0">
            <a:noFill/>
          </a:ln>
        </p:spPr>
        <p:txBody>
          <a:bodyPr anchor="t">
            <a:normAutofit/>
          </a:bodyPr>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17bbfd"/>
                </a:solidFill>
                <a:uFillTx/>
                <a:latin typeface="Century Gothic"/>
                <a:hlinkClick r:id="rId2"/>
              </a:rPr>
              <a:t>Invento del Arado.</a:t>
            </a:r>
            <a:endParaRPr b="0" lang="en-US" sz="2000" spc="-1" strike="noStrike">
              <a:solidFill>
                <a:srgbClr val="ffffff"/>
              </a:solidFill>
              <a:latin typeface="Century Gothic"/>
            </a:endParaRPr>
          </a:p>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17bbfd"/>
                </a:solidFill>
                <a:uFillTx/>
                <a:latin typeface="Century Gothic"/>
                <a:hlinkClick r:id="rId3"/>
              </a:rPr>
              <a:t>Baja Edad Media</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1 Título" descr=""/>
          <p:cNvPicPr/>
          <p:nvPr/>
        </p:nvPicPr>
        <p:blipFill>
          <a:blip r:embed="rId1"/>
          <a:stretch/>
        </p:blipFill>
        <p:spPr>
          <a:xfrm>
            <a:off x="2494080" y="262080"/>
            <a:ext cx="3376440" cy="1358640"/>
          </a:xfrm>
          <a:prstGeom prst="rect">
            <a:avLst/>
          </a:prstGeom>
          <a:ln w="0">
            <a:noFill/>
          </a:ln>
        </p:spPr>
      </p:pic>
      <p:sp>
        <p:nvSpPr>
          <p:cNvPr id="324" name="PlaceHolder 1"/>
          <p:cNvSpPr>
            <a:spLocks noGrp="1"/>
          </p:cNvSpPr>
          <p:nvPr>
            <p:ph/>
          </p:nvPr>
        </p:nvSpPr>
        <p:spPr>
          <a:xfrm>
            <a:off x="380880" y="1633680"/>
            <a:ext cx="8439120" cy="4819680"/>
          </a:xfrm>
          <a:prstGeom prst="rect">
            <a:avLst/>
          </a:prstGeom>
          <a:noFill/>
          <a:ln w="0">
            <a:noFill/>
          </a:ln>
        </p:spPr>
        <p:txBody>
          <a:bodyPr anchor="t">
            <a:normAutofit/>
          </a:bodyPr>
          <a:p>
            <a:pPr marL="5400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Harlow Solid Italic"/>
              </a:rPr>
              <a:t>Markel Odriozola.</a:t>
            </a:r>
            <a:endParaRPr b="0" lang="en-US" sz="4800" spc="-1" strike="noStrike">
              <a:solidFill>
                <a:srgbClr val="ffffff"/>
              </a:solidFill>
              <a:latin typeface="Century Gothic"/>
            </a:endParaRPr>
          </a:p>
          <a:p>
            <a:pPr marL="5400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Harlow Solid Italic"/>
              </a:rPr>
              <a:t>Miguel Ángel M. Gutiérrez.</a:t>
            </a:r>
            <a:endParaRPr b="0" lang="en-US" sz="4800" spc="-1" strike="noStrike">
              <a:solidFill>
                <a:srgbClr val="ffffff"/>
              </a:solidFill>
              <a:latin typeface="Century Gothic"/>
            </a:endParaRPr>
          </a:p>
          <a:p>
            <a:pPr marL="5400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Harlow Solid Italic"/>
              </a:rPr>
              <a:t>Darío S. Zabala.</a:t>
            </a:r>
            <a:endParaRPr b="0" lang="en-US" sz="4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05T08:35:44Z</dcterms:created>
  <dc:creator>IR015252AG</dc:creator>
  <dc:description/>
  <dc:language>en-US</dc:language>
  <cp:lastModifiedBy>Artaza Romo Ikaslea</cp:lastModifiedBy>
  <dcterms:modified xsi:type="dcterms:W3CDTF">2014-02-24T13:38:02Z</dcterms:modified>
  <cp:revision>14</cp:revision>
  <dc:subject/>
  <dc:title>Diapositiva 1</dc:title>
</cp:coreProperties>
</file>